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7AD-1FCC-4902-96CE-6F7CAB652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B5B-85ED-4209-AC7A-7D5130A6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187-008E-486E-9AA5-92BCE0B4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C80-C825-489D-AB7F-167CEEC9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3234-2888-49F3-9E1F-47DDA09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0E14-B216-4074-B2B4-2E459421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70E-4033-4BCF-912D-4C17FEBA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36A-47C4-4CCE-AE55-5AB0D048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1C1-7B03-42FA-8103-AEA1BA0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426-2710-4C7C-B1B1-AC1F295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405D-CFEC-4DDB-9B57-156162D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2BD-E993-4046-9746-994BB66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DB6D-ECAB-447F-BD6B-7AADB7429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 Boy’s 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4191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01000" y="6172200"/>
            <a:ext cx="5335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156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The call from p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t is called from the police and Shafi felt a lump rising in his throat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50292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99"/>
                </a:solidFill>
                <a:latin typeface="Arial"/>
              </a:rPr>
              <a:t>The police is telling him that his car is crash and it become a fatal accident. He told Shafi the woman in passenger seat is in intensive care, she refuse to tell them her name, she just want to see you.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hat’s left ?</a:t>
            </a:r>
            <a:br>
              <a:rPr sz="4000"/>
            </a:b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OMG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620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What’s the ending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Arial"/>
              </a:rPr>
              <a:t>It’s your time now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We prepare a song for you, thinking and enjoy.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301932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15200" y="579132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156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4099320"/>
            <a:ext cx="861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The boy’s name is shafi. He want to buy a car since he was 17 year-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After several years saving money, he has enough money to buy a c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So, Shafi go to the car shop to buy a car but the price is too light for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So, he is bargaining with the sale man. At final, he bought that red car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29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To show his new car</a:t>
            </a:r>
            <a:r>
              <a:rPr b="1" i="1" lang="zh-CN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33cc33"/>
                </a:solidFill>
                <a:latin typeface="Arial"/>
              </a:rPr>
              <a:t>His girlfriend’s name is Gemma .Then, he go to his girlfriend's home to pick her up. And he is very happy that he can show his lovely car.</a:t>
            </a:r>
            <a:br>
              <a:rPr sz="2000"/>
            </a:b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4343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ght cl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Arial"/>
              </a:rPr>
              <a:t>Then Gemma suggest to go to the night bar with his new car. shafi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5181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00"/>
                </a:solidFill>
                <a:latin typeface="Arial"/>
              </a:rPr>
              <a:t>Another handsome guy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cc33"/>
                </a:solidFill>
                <a:latin typeface="Arial"/>
              </a:rPr>
              <a:t>At the bar,  they cross by to see Gemma’s former boy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52280"/>
            <a:ext cx="373356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Of course that is a not happy meeting, but after that, they  dance and dance. But Shafi didn't notice that his girlfriend has stolen something from his porket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95680" y="152280"/>
            <a:ext cx="4476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ere is the ca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66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When they go back home and start to notice that his car is absent at the car parking.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867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the c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Then he notice that his car is lost, he yelling, and the tears were already beginning to well up his eyes.</a:t>
            </a:r>
            <a:br>
              <a:rPr sz="2400"/>
            </a:b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He is looking increasingly desperate.</a:t>
            </a: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025960" y="3938760"/>
            <a:ext cx="41180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zh-CN" sz="2400" spc="-1" strike="noStrike">
                <a:solidFill>
                  <a:srgbClr val="0000ff"/>
                </a:solidFill>
                <a:latin typeface="Arial"/>
              </a:rPr>
              <a:t>After that Gemma ask him to clam down and try to go home by Rooksby’s car.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504960" cy="4876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4876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9T04:38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